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2CE-7723-4929-895E-FA5A8225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F28-7B3B-49D8-98C0-5230AF69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711-9EA8-40E2-95F3-CA6E8B09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078-1665-4E3A-A46E-02CE0C66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CCA-AFEF-45A9-9523-2A6D80D5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E96-2138-4721-A132-CBDE5D12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4D3-BF1B-4FA8-94F5-7FE0AC8D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5E2-73EC-45F4-9B6F-9A0D8575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444-83D4-48EB-851D-D1E97472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33A-2B9C-4BDB-ACB7-6046C036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915-BC9E-48EF-B90B-1AA2684B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412-096F-42C5-887E-35A3067A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21BB-D9F0-4826-BC2B-42B05262C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germanstories.vcu.edu/struwwel/daumen1.gif"/>
          <p:cNvPicPr/>
          <p:nvPr/>
        </p:nvPicPr>
        <p:blipFill>
          <a:blip r:embed="rId1"/>
          <a:stretch/>
        </p:blipFill>
        <p:spPr>
          <a:xfrm>
            <a:off x="457200" y="3200400"/>
            <a:ext cx="2543040" cy="3419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19240" y="763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"Konrad!" sprach die Frau Mamma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"Ich geh‘ aus und du bleibst da.</a:t>
            </a:r>
            <a:br>
              <a:rPr sz="1800"/>
            </a:b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Sei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hübsch, ordentlich und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 fromm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is nach Hause ich wieder komm'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vor allem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, Konrad, hör!</a:t>
            </a:r>
            <a:br>
              <a:rPr sz="1800"/>
            </a:b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Lutsche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nicht am 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Daumen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mehr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enn der 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Schneider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mit der Scher‘‚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Schere)</a:t>
            </a:r>
            <a:br>
              <a:rPr sz="12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ommt sonst ganz 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geschwind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aher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nd die Daumen schneidet 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b, 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als ob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apier es wär'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http://germanstories.vcu.edu/struwwel/daumen2.gif"/>
          <p:cNvPicPr/>
          <p:nvPr/>
        </p:nvPicPr>
        <p:blipFill>
          <a:blip r:embed="rId2"/>
          <a:stretch/>
        </p:blipFill>
        <p:spPr>
          <a:xfrm>
            <a:off x="5340240" y="781200"/>
            <a:ext cx="2552760" cy="2571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572000" y="3276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rt geht nun die Mutter und</a:t>
            </a:r>
            <a:br>
              <a:rPr sz="1800"/>
            </a:b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Wupp!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en Daumen in den M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809880" y="4114800"/>
            <a:ext cx="3733920" cy="2653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echen, sprach, gespro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i – Behfehlsform von “se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m – p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r allem – above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utsche – s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umen – thu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 – tailor/cu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schwind – swif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s ob – as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upp– onomatopoeia (Lautmalere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862520" y="228600"/>
            <a:ext cx="3678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e Geschichte vom Daumenluts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germanstories.vcu.edu/struwwel/daumen3.gif"/>
          <p:cNvPicPr/>
          <p:nvPr/>
        </p:nvPicPr>
        <p:blipFill>
          <a:blip r:embed="rId1"/>
          <a:stretch/>
        </p:blipFill>
        <p:spPr>
          <a:xfrm>
            <a:off x="380880" y="1143000"/>
            <a:ext cx="3581640" cy="2540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5410080" y="259092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Weh!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Jetzt geht es 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klipp und klapp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it der Scher' die Daumen ab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it der großen scharfen Scher'!</a:t>
            </a:r>
            <a:br>
              <a:rPr sz="1800"/>
            </a:b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Hei!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a schreit der Konrad sehr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ls die Mutter kommt nach Haus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ieht der Konrad traurig aus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Ohne Daumen steht er dort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sind alle beide 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f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germanstories.vcu.edu/struwwel/daumen4.gif"/>
          <p:cNvPicPr/>
          <p:nvPr/>
        </p:nvPicPr>
        <p:blipFill>
          <a:blip r:embed="rId2"/>
          <a:stretch/>
        </p:blipFill>
        <p:spPr>
          <a:xfrm>
            <a:off x="6172200" y="0"/>
            <a:ext cx="2133720" cy="2584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80880" y="3581280"/>
            <a:ext cx="4419720" cy="1797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uz – onomatopoeia (Lautmalere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ub’- living 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b - b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h! – 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lipp und klapp – onomatopoe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i – h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t - g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80880" y="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Bauz!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a geht die Türe auf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nd herein in schnellem Lauf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pringt der Schneider in die 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Stub'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Zu dem Daumen-Lutscher-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Bub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rad hatte einen sehr schlechten Tag.  Er hat keine Daumen mehr.  Er schreibt in seinem Tagesbuch, was passiert ist.  (Du bist Konrad.  Schreib in die Vergangenhei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)  </a:t>
            </a: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(*Ich werde das korrigieren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iner Hand ITC"/>
              </a:rPr>
              <a:t>Liebes Tagebu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iner Hand ITC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iner Hand ITC"/>
              </a:rPr>
              <a:t>Heute war ein sehr schlechter Tag…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 hat Mama gemacht?/Was hat Konrad gemacht?/  Was ist zunächst passiert?/ Was hat Konrad dann gemac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tra Vokabel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hneiden, hat geschnitt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utschen , hat gelutsch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16:52:33Z</dcterms:created>
  <dc:creator>temp</dc:creator>
  <dc:description/>
  <dc:language>en-US</dc:language>
  <cp:lastModifiedBy>tmsadmin</cp:lastModifiedBy>
  <dcterms:modified xsi:type="dcterms:W3CDTF">2014-03-04T21:27:07Z</dcterms:modified>
  <cp:revision>32</cp:revision>
  <dc:subject/>
  <dc:title>Slide 1</dc:title>
</cp:coreProperties>
</file>